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5.jpeg" ContentType="image/jpeg"/>
  <Override PartName="/ppt/media/image23.jpeg" ContentType="image/jpeg"/>
  <Override PartName="/ppt/media/image21.gif" ContentType="image/gif"/>
  <Override PartName="/ppt/media/image19.png" ContentType="image/png"/>
  <Override PartName="/ppt/media/image20.gif" ContentType="image/gif"/>
  <Override PartName="/ppt/media/image18.gif" ContentType="image/gif"/>
  <Override PartName="/ppt/media/image17.jpeg" ContentType="image/jpeg"/>
  <Override PartName="/ppt/media/image14.gif" ContentType="image/gif"/>
  <Override PartName="/ppt/media/image1.jpeg" ContentType="image/jpeg"/>
  <Override PartName="/ppt/media/image7.jpeg" ContentType="image/jpeg"/>
  <Override PartName="/ppt/media/image22.gif" ContentType="image/gif"/>
  <Override PartName="/ppt/media/image4.jpeg" ContentType="image/jpeg"/>
  <Override PartName="/ppt/media/image13.gif" ContentType="image/gif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196-D766-40C0-A41C-6580643D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6B4-9420-4752-8EEC-1C3FE6B1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C33-BB9A-4551-B063-D399BE27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B54E-2863-4951-90CB-62014C16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B443-DEAC-4677-B496-B2701B70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2B4D-759F-47A6-B625-6B88FF6A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D358-F627-4695-96C2-45CE13A2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9330-3BC5-4EFE-80F6-A21707AF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9D78-7EFA-4918-94B3-93DF090E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1244-8331-4859-B40C-1D2975B6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55EB-2B37-48AA-B8B7-C067155B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EF14-5F0D-47FB-A6E6-FB44E3CF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4362-6F4A-434B-B397-8C62F885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99FF-2291-4E9D-BED1-920EDD95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5343-7BC5-4F83-B7E3-6FF4AC73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4499-202F-43A3-93F7-A3E7310D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322B-8C63-4D21-9C92-B527D727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0663F-7D7E-4C40-BC97-CE57FE61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22C2E-0D9E-4951-A5CB-7F7DF11E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B286B-D54B-4CC2-9F82-6F6716B2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48BFC-7625-4C45-B4AE-45B527C7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7B316-0198-45A7-BFDA-9B9C4BCA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133E-23C8-45A7-965C-8A155328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2E82-6A29-4575-8C9D-8EBE0D41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33A8E-744D-4170-AF1A-ABD706E1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574BC-47ED-46FD-BE17-628A015C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FAD64-6B4A-43AA-8CF7-EA4FAA39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12E0-EF3F-4037-9AEF-74AB7B7D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40E5D-6927-4054-8F13-5D6D72EC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57DB5-75E4-41A9-B97A-741D6F09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61FFD-9FF1-4518-B74D-8A5AB8EA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524D4-007E-4FFE-9082-5BD06124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937CD-329B-4815-B33B-A9AC9F67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5AC-9831-44BE-A5D3-4B5DEE36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FFE44-8FFF-462F-9E36-4E73232E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E0526-6A9D-4A0D-9A76-1DA377A7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BC918-FBC3-40D6-91E7-7D05E9A7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ED547-5BC5-4F1A-B12A-81EBBB82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951C-72F7-4CB4-B351-1303D31F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0A89A-363E-4182-9597-84922422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A5D5C-1FD4-496B-9A88-D47C0D90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2489A-45BB-4F21-845C-8F0625DC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26A52-F460-4B94-A6F4-D7D89DB6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71B-6518-4045-B540-C9D22C9A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D61-1A0A-4B1F-8CD6-F42DF3DF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8FA-594A-4B3A-85BB-9B6C875A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F7D4-6345-435E-9369-878F3D56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082-2DC8-4C1C-BCC9-6229288B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86752C-6313-4D8D-965C-4B5E8A75047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b8b8b"/>
                </a:solidFill>
                <a:latin typeface="Calibri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C5D396-04F5-4D93-B35A-02F77480659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84DF5F-769C-4EDC-8DB7-BD6F6B29DC5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D78353-058A-48FD-B717-DD56A1BAD89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Содержимое 3" descr="image.gif"/>
          <p:cNvPicPr/>
          <p:nvPr/>
        </p:nvPicPr>
        <p:blipFill>
          <a:blip r:embed="rId1"/>
          <a:stretch/>
        </p:blipFill>
        <p:spPr>
          <a:xfrm>
            <a:off x="1785960" y="1643040"/>
            <a:ext cx="5880960" cy="28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Informal Roman"/>
              </a:rPr>
              <a:t>Guess a riddle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81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холм подняться я решил. Холм по-английски это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одержимое 6"/>
          <p:cNvSpPr/>
          <p:nvPr/>
        </p:nvSpPr>
        <p:spPr>
          <a:xfrm>
            <a:off x="457200" y="2500200"/>
            <a:ext cx="4039920" cy="3164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92d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ился в поле. Все болит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оле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Содержимое 7"/>
          <p:cNvSpPr/>
          <p:nvPr/>
        </p:nvSpPr>
        <p:spPr>
          <a:xfrm>
            <a:off x="4645080" y="263484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eeece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3">
                    <a:lumMod val="50000"/>
                  </a:schemeClr>
                </a:solidFill>
                <a:latin typeface="Arial Black"/>
              </a:rPr>
              <a:t>Make up sentences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22160" y="192888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a lot of/ hills/ there are/ in the/ green/ country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in/ a long/ your/ there is/ town/ river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chemeClr val="accent4">
                    <a:lumMod val="75000"/>
                  </a:schemeClr>
                </a:solidFill>
                <a:latin typeface="Chiller"/>
              </a:rPr>
              <a:t>Divide the descriptions into 2 columns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Содержимое 3"/>
          <p:cNvGraphicFramePr/>
          <p:nvPr/>
        </p:nvGraphicFramePr>
        <p:xfrm>
          <a:off x="457200" y="1600200"/>
          <a:ext cx="8229240" cy="1971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Box 4"/>
          <p:cNvSpPr/>
          <p:nvPr/>
        </p:nvSpPr>
        <p:spPr>
          <a:xfrm>
            <a:off x="714240" y="4357800"/>
            <a:ext cx="3857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428760" y="3790800"/>
            <a:ext cx="385740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It is big. It is noisy. You can see a lot of cars, buses and trams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57120" y="4933800"/>
            <a:ext cx="400032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It is quiet. It is peaceful. It is green. You can see a lot of apple trees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071960" y="3790800"/>
            <a:ext cx="478584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The streets are wide and long. There are many people in the streets. They are always bu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4714920" y="4786200"/>
            <a:ext cx="4214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214880" y="4862520"/>
            <a:ext cx="457164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There are a lot of buildings. The houses are big and tall. You can see many bridge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643120" y="5861160"/>
            <a:ext cx="478584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The streets are small. There are many animals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07407E-006 L -2.77778E-006 -0.30463 E">
                                      <p:cBhvr>
                                        <p:cTn id="16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3 -0.03032 L 0.39184 -0.46088 E">
                                      <p:cBhvr>
                                        <p:cTn id="1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-0.42048 -0.18912 E">
                                      <p:cBhvr>
                                        <p:cTn id="17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-0.45504 -0.24051 E">
                                      <p:cBhvr>
                                        <p:cTn id="17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47 -0.03056 L 0.17344 -0.38473 E">
                                      <p:cBhvr>
                                        <p:cTn id="18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040" cy="8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1">
                    <a:lumMod val="75000"/>
                  </a:schemeClr>
                </a:solidFill>
                <a:latin typeface="Monotype Corsiva"/>
              </a:rPr>
              <a:t>Mark the correct sentence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14240" y="1214280"/>
            <a:ext cx="7772040" cy="514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lot of cow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lot of cows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is a lot of cows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cow in the country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cap="all">
                <a:solidFill>
                  <a:schemeClr val="accent1">
                    <a:lumMod val="50000"/>
                  </a:schemeClr>
                </a:solidFill>
                <a:latin typeface="Juice ITC"/>
              </a:rPr>
              <a:t>Complete the sentences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1571760"/>
            <a:ext cx="7772040" cy="39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… a lot (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вец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in the country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… a lot of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рыбы) 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the river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 lot of gardens in ou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больших городах)?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 lot of shops in ou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больших городах)?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2">
                    <a:lumMod val="75000"/>
                  </a:schemeClr>
                </a:solidFill>
                <a:latin typeface="Corbel"/>
              </a:rPr>
              <a:t>Mark the singular noun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2160" y="2000160"/>
            <a:ext cx="7772040" cy="35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ople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n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9862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6">
                    <a:lumMod val="50000"/>
                  </a:schemeClr>
                </a:solidFill>
                <a:latin typeface="Chiller"/>
              </a:rPr>
              <a:t>Which word is spelt in the wrong way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040" cy="32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ver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ry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7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ve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not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house is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it because …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E:\Английский язык\Фотографии\мультгерои\image28.gif"/>
          <p:cNvPicPr/>
          <p:nvPr/>
        </p:nvPicPr>
        <p:blipFill>
          <a:blip r:embed="rId1"/>
          <a:stretch/>
        </p:blipFill>
        <p:spPr>
          <a:xfrm>
            <a:off x="4643280" y="428760"/>
            <a:ext cx="2999880" cy="299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E:\Английский язык\Фотографии\мультгерои\нюша 2.png"/>
          <p:cNvPicPr/>
          <p:nvPr/>
        </p:nvPicPr>
        <p:blipFill>
          <a:blip r:embed="rId2"/>
          <a:stretch/>
        </p:blipFill>
        <p:spPr>
          <a:xfrm>
            <a:off x="4857840" y="2214720"/>
            <a:ext cx="3936240" cy="4214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E:\Английский язык\Фотографии\мультгерои\матроскин.gif"/>
          <p:cNvPicPr/>
          <p:nvPr/>
        </p:nvPicPr>
        <p:blipFill>
          <a:blip r:embed="rId3"/>
          <a:stretch/>
        </p:blipFill>
        <p:spPr>
          <a:xfrm>
            <a:off x="4714920" y="928800"/>
            <a:ext cx="3214440" cy="3214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E:\Английский язык\Фотографии\мультгерои\parrot kesha.gif"/>
          <p:cNvPicPr/>
          <p:nvPr/>
        </p:nvPicPr>
        <p:blipFill>
          <a:blip r:embed="rId4"/>
          <a:stretch/>
        </p:blipFill>
        <p:spPr>
          <a:xfrm>
            <a:off x="5000760" y="2286000"/>
            <a:ext cx="342396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Содержимое 3" descr="thank_you_011.gif"/>
          <p:cNvPicPr/>
          <p:nvPr/>
        </p:nvPicPr>
        <p:blipFill>
          <a:blip r:embed="rId1"/>
          <a:stretch/>
        </p:blipFill>
        <p:spPr>
          <a:xfrm>
            <a:off x="2143080" y="1285920"/>
            <a:ext cx="49716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одержимое 3" descr="good bye 13.jpg"/>
          <p:cNvPicPr/>
          <p:nvPr/>
        </p:nvPicPr>
        <p:blipFill>
          <a:blip r:embed="rId1"/>
          <a:stretch/>
        </p:blipFill>
        <p:spPr>
          <a:xfrm>
            <a:off x="2143080" y="928800"/>
            <a:ext cx="46432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558ed5"/>
                </a:solidFill>
                <a:latin typeface="Cooper Black"/>
              </a:rPr>
              <a:t>Country 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and</a:t>
            </a:r>
            <a:r>
              <a:rPr b="0" lang="en-US" sz="4400" spc="-1" strike="noStrike">
                <a:solidFill>
                  <a:srgbClr val="558ed5"/>
                </a:solidFill>
                <a:latin typeface="Cooper Black"/>
              </a:rPr>
              <a:t> </a:t>
            </a:r>
            <a:r>
              <a:rPr b="0" lang="en-US" sz="4400" spc="-1" strike="noStrike">
                <a:solidFill>
                  <a:schemeClr val="accent5">
                    <a:lumMod val="50000"/>
                  </a:schemeClr>
                </a:solidFill>
                <a:latin typeface="Cooper Black"/>
              </a:rPr>
              <a:t>Cit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Содержимое 3" descr="city_country.jpg"/>
          <p:cNvPicPr/>
          <p:nvPr/>
        </p:nvPicPr>
        <p:blipFill>
          <a:blip r:embed="rId1"/>
          <a:stretch/>
        </p:blipFill>
        <p:spPr>
          <a:xfrm>
            <a:off x="1523880" y="1720080"/>
            <a:ext cx="6095520" cy="42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cap="all">
                <a:solidFill>
                  <a:srgbClr val="17375e"/>
                </a:solidFill>
                <a:latin typeface="Chiller"/>
              </a:rPr>
              <a:t>Choose the appropriate word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10717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ouses in the city are very …. </a:t>
            </a: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small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angr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wind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all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icture 2"/>
          <p:cNvSpPr/>
          <p:nvPr/>
        </p:nvSpPr>
        <p:spPr>
          <a:xfrm>
            <a:off x="428760" y="3429000"/>
            <a:ext cx="3428640" cy="21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1f497d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4">
                    <a:lumMod val="75000"/>
                  </a:schemeClr>
                </a:solidFill>
                <a:latin typeface="Calibri"/>
              </a:rPr>
              <a:t>Which words are connected with </a:t>
            </a:r>
            <a:r>
              <a:rPr b="1" lang="en-US" sz="4400" spc="-1" strike="noStrike" cap="all">
                <a:solidFill>
                  <a:schemeClr val="accent1">
                    <a:lumMod val="75000"/>
                  </a:schemeClr>
                </a:solidFill>
                <a:latin typeface="Chiller"/>
              </a:rPr>
              <a:t>a city</a:t>
            </a:r>
            <a:r>
              <a:rPr b="1" lang="en-US" sz="4000" spc="-1" strike="noStrike" cap="all">
                <a:solidFill>
                  <a:schemeClr val="accent4">
                    <a:lumMod val="75000"/>
                  </a:schemeClr>
                </a:solidFill>
                <a:latin typeface="Calibri"/>
              </a:rPr>
              <a:t>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040" cy="42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dge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w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r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icture 2"/>
          <p:cNvSpPr/>
          <p:nvPr/>
        </p:nvSpPr>
        <p:spPr>
          <a:xfrm>
            <a:off x="428760" y="3500280"/>
            <a:ext cx="3571560" cy="2041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eeece1">
                <a:lumMod val="2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70c0"/>
                </a:solidFill>
                <a:latin typeface="Cooper Black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мотри как здесь красиво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ща там, здесь речка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Содержимое 6"/>
          <p:cNvSpPr/>
          <p:nvPr/>
        </p:nvSpPr>
        <p:spPr>
          <a:xfrm>
            <a:off x="457200" y="2635560"/>
            <a:ext cx="4039920" cy="3029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4f81bd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5080" y="1285920"/>
            <a:ext cx="4041360" cy="88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б знали, сообщаю вам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ферма – это …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Содержимое 7"/>
          <p:cNvSpPr/>
          <p:nvPr/>
        </p:nvSpPr>
        <p:spPr>
          <a:xfrm>
            <a:off x="4714920" y="2286000"/>
            <a:ext cx="3903480" cy="395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8064a2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030a0"/>
                </a:solidFill>
                <a:latin typeface="Arial Rounded MT Bold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рковь хочет всем помочь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рковь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Содержимое 6"/>
          <p:cNvSpPr/>
          <p:nvPr/>
        </p:nvSpPr>
        <p:spPr>
          <a:xfrm>
            <a:off x="714240" y="2500200"/>
            <a:ext cx="3357360" cy="3873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1f497d">
                <a:lumMod val="60000"/>
                <a:lumOff val="4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 наш город посетите!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род это будет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одержимое 7"/>
          <p:cNvSpPr/>
          <p:nvPr/>
        </p:nvSpPr>
        <p:spPr>
          <a:xfrm>
            <a:off x="4572000" y="271476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4f81bd">
                <a:lumMod val="40000"/>
                <a:lumOff val="6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a452a"/>
                </a:solidFill>
                <a:latin typeface="Berlin Sans FB Demi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39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деревню ехать очень рад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ревня – это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Содержимое 6" descr="8ZX4D00Z.jpg"/>
          <p:cNvPicPr/>
          <p:nvPr/>
        </p:nvPicPr>
        <p:blipFill>
          <a:blip r:embed="rId1"/>
          <a:stretch/>
        </p:blipFill>
        <p:spPr>
          <a:xfrm>
            <a:off x="427320" y="2500200"/>
            <a:ext cx="4073040" cy="32785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5080" y="1357200"/>
            <a:ext cx="4041360" cy="99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рень в саду цветет. Прохлада. Сад по-английски – это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одержимое 7"/>
          <p:cNvSpPr/>
          <p:nvPr/>
        </p:nvSpPr>
        <p:spPr>
          <a:xfrm>
            <a:off x="4645080" y="263484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ooper Black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ный вам задам вопрос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ак назвали лошадь?» -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Содержимое 6" descr="905478307.gif"/>
          <p:cNvPicPr/>
          <p:nvPr/>
        </p:nvPicPr>
        <p:blipFill>
          <a:blip r:embed="rId1"/>
          <a:stretch/>
        </p:blipFill>
        <p:spPr>
          <a:xfrm>
            <a:off x="457200" y="2594520"/>
            <a:ext cx="4039920" cy="3111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свою Буренку называю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ушка – коровушка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7" descr="1944.gif"/>
          <p:cNvPicPr/>
          <p:nvPr/>
        </p:nvPicPr>
        <p:blipFill>
          <a:blip r:embed="rId2"/>
          <a:stretch/>
        </p:blipFill>
        <p:spPr>
          <a:xfrm>
            <a:off x="5000760" y="257184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2">
                    <a:lumMod val="75000"/>
                  </a:schemeClr>
                </a:solidFill>
                <a:latin typeface="Harlow Solid Italic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Char char="-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рисуешь доченька?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Char char="-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очка, смотри! Я рисую дерево, по – английски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6" descr="tree2.gif"/>
          <p:cNvPicPr/>
          <p:nvPr/>
        </p:nvPicPr>
        <p:blipFill>
          <a:blip r:embed="rId1"/>
          <a:stretch/>
        </p:blipFill>
        <p:spPr>
          <a:xfrm>
            <a:off x="642960" y="2286000"/>
            <a:ext cx="3492000" cy="3951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5080" y="1357200"/>
            <a:ext cx="4041360" cy="81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у тропинки стадо пас. Тропинка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Содержимое 7"/>
          <p:cNvSpPr/>
          <p:nvPr/>
        </p:nvSpPr>
        <p:spPr>
          <a:xfrm>
            <a:off x="5214960" y="2286000"/>
            <a:ext cx="2642760" cy="395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9bbb59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  <Words>457</Words>
  <Paragraphs>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3-04-29T21:30:40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